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86F-6C86-4473-9B56-F4DE5D16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6DF-C183-4D55-B02C-70559A5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3F8-6920-4D62-B578-17A0C0AA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F49-F7F7-4885-A180-62C3254F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440-FDD7-4AC5-92C8-5E763CA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F19-B9EA-400C-AFD2-E36B5783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96A-5F5E-4B97-BC67-1A1524F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E23-D481-4AA0-96C8-1461A80F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C94-1B97-4659-B88B-6EF0220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209-44BD-4EBE-92F3-65BB2F0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150-5744-472A-A5E8-D86A874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053-D846-42FE-A792-4D31778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004C-F3C1-4ABE-9CAB-24F76740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89440" y="-963720"/>
            <a:ext cx="209556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21752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87600" y="-3700440"/>
            <a:ext cx="21272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71 -0.24815 C -0.05364 -0.22153 -0.10659 -0.26435 -0.06805 -0.225 C -0.06163 -0.21852 -0.05434 -0.21458 -0.04757 -0.20926 C -0.04444 -0.20694 -0.0375 -0.20162 -0.0375 -0.20116 C -0.03593 -0.19629 -0.03524 -0.18935 -0.03229 -0.18611 C -0.02031 -0.17153 0.01285 -0.15208 0.02865 -0.13935 C 0.03542 -0.13403 0.04236 -0.12916 0.04879 -0.12384 C 0.05261 -0.12153 0.0592 -0.11597 0.0592 -0.11551 C 0.06789 -0.09028 0.06077 -0.10301 0.08473 -0.08541 C 0.09045 -0.08055 0.1092 -0.05254 0.11528 -0.04653 C 0.13664 -0.02477 0.16337 -0.00926 0.18646 0.00834 C 0.23507 0.04491 0.28438 0.07662 0.33368 0.10857 C 0.35591 0.12269 0.37882 0.13982 0.39983 0.15579 C 0.41007 0.16296 0.42049 0.17361 0.43073 0.17894 C 0.47691 0.20232 0.51945 0.23102 0.56302 0.26459 C 0.60035 0.29329 0.63785 0.3213 0.675 0.35 C 0.69132 0.36273 0.70747 0.38125 0.72605 0.38125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372 0.71991 C 0.52362 0.73311 0.53473 0.73936 0.54705 0.74769 C 0.56164 0.75741 0.55539 0.75811 0.56789 0.76436 C 0.57605 0.76853 0.59289 0.77547 0.59289 0.77547 C 0.59566 0.77917 0.59775 0.78427 0.60122 0.78658 C 0.60903 0.79191 0.62622 0.79769 0.62622 0.79769 C 0.63785 0.8132 0.64271 0.80973 0.65539 0.81991 C 0.65973 0.82339 0.66355 0.82778 0.66789 0.83103 C 0.67327 0.83519 0.68021 0.83635 0.68455 0.84214 C 0.69671 0.85834 0.70504 0.86436 0.72205 0.86991 C 0.72674 0.87408 0.73646 0.8838 0.74289 0.88658 C 0.74827 0.8889 0.75417 0.88936 0.75955 0.89214 C 0.77362 0.89908 0.78768 0.91089 0.80122 0.91991 C 0.80643 0.92339 0.8125 0.92269 0.81789 0.92547 C 0.82362 0.92848 0.829 0.93288 0.83455 0.93658 C 0.84566 0.94399 0.85678 0.9514 0.86789 0.9588 C 0.8757 0.96413 0.89289 0.96991 0.89289 0.96991 C 0.90886 0.99121 0.93073 0.99306 0.95122 1.00325 C 0.96528 1.01019 0.97553 1.02339 0.98872 1.03103 C 0.99393 1.03403 1 1.0338 1.00539 1.03658 C 1.0198 1.04376 1.03247 1.05788 1.04705 1.06436 C 1.05122 1.06621 1.05556 1.0676 1.05955 1.06991 C 1.06528 1.07316 1.07032 1.07848 1.07622 1.08103 C 1.08455 1.08473 1.09393 1.08566 1.10122 1.09214 C 1.10747 1.09769 1.11476 1.1051 1.12205 1.1088 C 1.17362 1.1345 1.225 1.15927 1.27622 1.18658 C 1.28021 1.18866 1.28455 1.19052 1.28872 1.19214 C 1.29428 1.19422 1.3 1.19491 1.30539 1.19769 C 1.31112 1.2007 1.31615 1.20626 1.32205 1.2088 C 1.34202 1.2176 1.36042 1.22778 1.38039 1.23658 C 1.39653 1.24376 1.41112 1.25417 1.42622 1.26436 C 1.43021 1.26691 1.43473 1.2676 1.43872 1.26991 C 1.45851 1.28126 1.47778 1.29584 1.49705 1.3088 C 1.50261 1.31251 1.50816 1.31621 1.51372 1.31991 C 1.51719 1.32223 1.51893 1.32778 1.52205 1.33103 C 1.5316 1.34052 1.53039 1.33103 1.53039 1.34214 E">
                                      <p:cBhvr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20T00:00:28Z</dcterms:modified>
  <cp:revision>19</cp:revision>
  <dc:subject/>
  <dc:title>Folie 1</dc:title>
</cp:coreProperties>
</file>